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9A0-C994-4454-87ED-0A49DDF5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A58-4E6C-486D-B78B-95D8DC56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CFF-D0F4-4E53-A08C-26D9DF2A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CF9-7148-41F0-96FE-F1E70FC1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CD0-26B6-4477-A661-D6826E2C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B66-509A-48E3-B97F-D535D9A3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3F0-C425-4963-A617-6300856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AA5-B435-43DA-A5DE-BE3AD0F7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9E8-FE4C-4C25-AE0F-2E5BF446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337-0717-49F5-A51D-CBB6814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990-779F-4177-A200-B478683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8F7-85DC-4251-B6AC-08C95B04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E6A3-F72B-495E-A6BF-63DE58308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WOODS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500120" y="1736640"/>
            <a:ext cx="6858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WOODS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643040" y="135720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Редкие птицы леса «Упаçнер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грамота 2 026"/>
          <p:cNvPicPr/>
          <p:nvPr/>
        </p:nvPicPr>
        <p:blipFill>
          <a:blip r:embed="rId1"/>
          <a:stretch/>
        </p:blipFill>
        <p:spPr>
          <a:xfrm>
            <a:off x="500040" y="428760"/>
            <a:ext cx="1714680" cy="271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грамота 2 030"/>
          <p:cNvPicPr/>
          <p:nvPr/>
        </p:nvPicPr>
        <p:blipFill>
          <a:blip r:embed="rId2"/>
          <a:stretch/>
        </p:blipFill>
        <p:spPr>
          <a:xfrm>
            <a:off x="1285920" y="3643200"/>
            <a:ext cx="1714320" cy="295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грамота 2 029"/>
          <p:cNvPicPr/>
          <p:nvPr/>
        </p:nvPicPr>
        <p:blipFill>
          <a:blip r:embed="rId3"/>
          <a:stretch/>
        </p:blipFill>
        <p:spPr>
          <a:xfrm>
            <a:off x="5429160" y="3857760"/>
            <a:ext cx="1800360" cy="278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грамота 2 027"/>
          <p:cNvPicPr/>
          <p:nvPr/>
        </p:nvPicPr>
        <p:blipFill>
          <a:blip r:embed="rId4"/>
          <a:stretch/>
        </p:blipFill>
        <p:spPr>
          <a:xfrm>
            <a:off x="6858000" y="428760"/>
            <a:ext cx="2009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294[1]"/>
          <p:cNvPicPr/>
          <p:nvPr/>
        </p:nvPicPr>
        <p:blipFill>
          <a:blip r:embed="rId1"/>
          <a:stretch/>
        </p:blipFill>
        <p:spPr>
          <a:xfrm>
            <a:off x="376200" y="268200"/>
            <a:ext cx="193356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1336"/>
          <p:cNvPicPr/>
          <p:nvPr/>
        </p:nvPicPr>
        <p:blipFill>
          <a:blip r:embed="rId2"/>
          <a:stretch/>
        </p:blipFill>
        <p:spPr>
          <a:xfrm>
            <a:off x="6372360" y="739800"/>
            <a:ext cx="1812960" cy="2636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328680" y="434880"/>
            <a:ext cx="21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алый дят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372360" y="27936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лёный дя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390822[1]"/>
          <p:cNvPicPr/>
          <p:nvPr/>
        </p:nvPicPr>
        <p:blipFill>
          <a:blip r:embed="rId3"/>
          <a:stretch/>
        </p:blipFill>
        <p:spPr>
          <a:xfrm>
            <a:off x="3006720" y="3083040"/>
            <a:ext cx="2735280" cy="3168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3295440" y="57610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олотистая  щу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635206[1]"/>
          <p:cNvPicPr/>
          <p:nvPr/>
        </p:nvPicPr>
        <p:blipFill>
          <a:blip r:embed="rId4"/>
          <a:stretch/>
        </p:blipFill>
        <p:spPr>
          <a:xfrm>
            <a:off x="6307200" y="3376440"/>
            <a:ext cx="2405160" cy="30956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6018480" y="602136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адовая ов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птицы"/>
          <p:cNvPicPr/>
          <p:nvPr/>
        </p:nvPicPr>
        <p:blipFill>
          <a:blip r:embed="rId5"/>
          <a:stretch/>
        </p:blipFill>
        <p:spPr>
          <a:xfrm>
            <a:off x="495360" y="3530520"/>
            <a:ext cx="2168640" cy="31543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57640" y="622296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шаст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4" descr=""/>
          <p:cNvPicPr/>
          <p:nvPr/>
        </p:nvPicPr>
        <p:blipFill>
          <a:blip r:embed="rId6"/>
          <a:stretch/>
        </p:blipFill>
        <p:spPr>
          <a:xfrm>
            <a:off x="3067200" y="353880"/>
            <a:ext cx="2406600" cy="9939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" descr=""/>
          <p:cNvPicPr/>
          <p:nvPr/>
        </p:nvPicPr>
        <p:blipFill>
          <a:blip r:embed="rId7"/>
          <a:stretch/>
        </p:blipFill>
        <p:spPr>
          <a:xfrm>
            <a:off x="2182680" y="1305000"/>
            <a:ext cx="43642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5" descr="AUTUMN_TREES.JPG"/>
          <p:cNvPicPr/>
          <p:nvPr/>
        </p:nvPicPr>
        <p:blipFill>
          <a:blip r:embed="rId1"/>
          <a:srcRect l="0" t="2510" r="0" b="2510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42920" y="5929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сень . Лес «Упаçн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2"/>
          <a:stretch/>
        </p:blipFill>
        <p:spPr>
          <a:xfrm>
            <a:off x="-298440" y="92160"/>
            <a:ext cx="9582120" cy="238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43"/>
          <p:cNvPicPr/>
          <p:nvPr/>
        </p:nvPicPr>
        <p:blipFill>
          <a:blip r:embed="rId3"/>
          <a:srcRect l="2779" t="4312" r="3051" b="6029"/>
          <a:stretch/>
        </p:blipFill>
        <p:spPr>
          <a:xfrm>
            <a:off x="4768920" y="3238560"/>
            <a:ext cx="4203720" cy="3038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0" name="Picture 9" descr="http://im5-tub-ru.yandex.net/i?id=494022307-63-72&amp;n=21"/>
          <p:cNvPicPr/>
          <p:nvPr/>
        </p:nvPicPr>
        <p:blipFill>
          <a:blip r:embed="rId4"/>
          <a:stretch/>
        </p:blipFill>
        <p:spPr>
          <a:xfrm>
            <a:off x="468360" y="4437000"/>
            <a:ext cx="31114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DSC00876.JPG"/>
          <p:cNvPicPr/>
          <p:nvPr/>
        </p:nvPicPr>
        <p:blipFill>
          <a:blip r:embed="rId1"/>
          <a:srcRect l="0" t="0" r="46552" b="0"/>
          <a:stretch/>
        </p:blipFill>
        <p:spPr>
          <a:xfrm>
            <a:off x="550800" y="611280"/>
            <a:ext cx="3828960" cy="537372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" descr=""/>
          <p:cNvPicPr/>
          <p:nvPr/>
        </p:nvPicPr>
        <p:blipFill>
          <a:blip r:embed="rId2"/>
          <a:stretch/>
        </p:blipFill>
        <p:spPr>
          <a:xfrm>
            <a:off x="347760" y="291960"/>
            <a:ext cx="6302160" cy="2116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214960" y="5715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рукова В.Г. на обходе уча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sotw9_temp0"/>
          <p:cNvPicPr/>
          <p:nvPr/>
        </p:nvPicPr>
        <p:blipFill>
          <a:blip r:embed="rId3"/>
          <a:srcRect l="26542" t="21663" r="27620" b="29602"/>
          <a:stretch/>
        </p:blipFill>
        <p:spPr>
          <a:xfrm>
            <a:off x="4971960" y="1012680"/>
            <a:ext cx="29862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WOODS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971640" y="119700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азник- участок территор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пределах которого постоянно или временно запрещены отдельные формы хозяйствен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ля обеспечения охраны определённых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WOODS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785960" y="1500120"/>
            <a:ext cx="471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храняемые растения леса «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паçнер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92280" y="1600200"/>
          <a:ext cx="5959440" cy="4525920"/>
        </p:xfrm>
        <a:graphic>
          <a:graphicData uri="http://schemas.openxmlformats.org/drawingml/2006/table">
            <a:tbl>
              <a:tblPr/>
              <a:tblGrid>
                <a:gridCol w="3060720"/>
                <a:gridCol w="2898720"/>
              </a:tblGrid>
              <a:tr h="4525920">
                <a:tc>
                  <a:txBody>
                    <a:bodyPr lIns="68040" rIns="6804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2" descr="plante_29"/>
          <p:cNvPicPr/>
          <p:nvPr/>
        </p:nvPicPr>
        <p:blipFill>
          <a:blip r:embed="rId1"/>
          <a:stretch/>
        </p:blipFill>
        <p:spPr>
          <a:xfrm>
            <a:off x="307800" y="907920"/>
            <a:ext cx="3357720" cy="537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DSCN087411[1]"/>
          <p:cNvPicPr/>
          <p:nvPr/>
        </p:nvPicPr>
        <p:blipFill>
          <a:blip r:embed="rId2"/>
          <a:stretch/>
        </p:blipFill>
        <p:spPr>
          <a:xfrm>
            <a:off x="4595760" y="1136520"/>
            <a:ext cx="3800520" cy="5445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5040" y="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800" y="180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160" y="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3320" y="430560"/>
            <a:ext cx="36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оричник крылатый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4572000" y="357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ушица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0080" y="0"/>
          <a:ext cx="6008760" cy="3189240"/>
        </p:xfrm>
        <a:graphic>
          <a:graphicData uri="http://schemas.openxmlformats.org/drawingml/2006/table">
            <a:tbl>
              <a:tblPr/>
              <a:tblGrid>
                <a:gridCol w="3086280"/>
                <a:gridCol w="2922480"/>
              </a:tblGrid>
              <a:tr h="3189240">
                <a:tc>
                  <a:txBody>
                    <a:bodyPr lIns="68400" rIns="6840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2" descr="e62[1]"/>
          <p:cNvPicPr/>
          <p:nvPr/>
        </p:nvPicPr>
        <p:blipFill>
          <a:blip r:embed="rId1"/>
          <a:stretch/>
        </p:blipFill>
        <p:spPr>
          <a:xfrm>
            <a:off x="684360" y="1222200"/>
            <a:ext cx="3313080" cy="5214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893398114[1]"/>
          <p:cNvPicPr/>
          <p:nvPr/>
        </p:nvPicPr>
        <p:blipFill>
          <a:blip r:embed="rId2"/>
          <a:stretch/>
        </p:blipFill>
        <p:spPr>
          <a:xfrm>
            <a:off x="4950000" y="1252440"/>
            <a:ext cx="3509640" cy="5184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285840" y="357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Шалфей мутовчат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4500720" y="285840"/>
            <a:ext cx="38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ремлик широколис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66720" y="2092320"/>
          <a:ext cx="6010560" cy="3541680"/>
        </p:xfrm>
        <a:graphic>
          <a:graphicData uri="http://schemas.openxmlformats.org/drawingml/2006/table">
            <a:tbl>
              <a:tblPr/>
              <a:tblGrid>
                <a:gridCol w="3086280"/>
                <a:gridCol w="2924280"/>
              </a:tblGrid>
              <a:tr h="354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2" descr="941a192a480f[1]"/>
          <p:cNvPicPr/>
          <p:nvPr/>
        </p:nvPicPr>
        <p:blipFill>
          <a:blip r:embed="rId1"/>
          <a:stretch/>
        </p:blipFill>
        <p:spPr>
          <a:xfrm>
            <a:off x="631800" y="961920"/>
            <a:ext cx="3868920" cy="513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File0304[1]"/>
          <p:cNvPicPr/>
          <p:nvPr/>
        </p:nvPicPr>
        <p:blipFill>
          <a:blip r:embed="rId2"/>
          <a:stretch/>
        </p:blipFill>
        <p:spPr>
          <a:xfrm>
            <a:off x="4883040" y="1268280"/>
            <a:ext cx="3716280" cy="5264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14200" y="5000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язель разноцве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857840" y="642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азурник трехлопат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33680" y="1380960"/>
          <a:ext cx="2276640" cy="4962600"/>
        </p:xfrm>
        <a:graphic>
          <a:graphicData uri="http://schemas.openxmlformats.org/drawingml/2006/table">
            <a:tbl>
              <a:tblPr/>
              <a:tblGrid>
                <a:gridCol w="568440"/>
                <a:gridCol w="569880"/>
                <a:gridCol w="569880"/>
                <a:gridCol w="568440"/>
              </a:tblGrid>
              <a:tr h="100080"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ство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rowSpan="7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книж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зурник трехлопастно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дерейные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я, уязвимый ви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едниковый реликт с узкой экологической амплитудой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ель разноцвет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я Вид с неопределенным статусо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ичник крылат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ичник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я Вид с неопределенным статусо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шица обыкновен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снотк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я, редкий ви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лфей мутовчат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снотк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я, редкий ви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елистник щетинист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я, редкий ви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млик широколист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трышник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я, редкий ви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rowSpan="11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ственные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елистник обыкновенный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ынь горькая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жма обыкновенная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вер дугово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повник майски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оцвет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обой продырявлен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обое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корень лекарствен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оцветные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пива двудом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пив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ндыш майски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ей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ена многоцветков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ей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рожник Ланцет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рожник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rowSpan="9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орий обыкновен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та полев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оцвет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ыть обыкновен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тич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а обыкновен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 - ча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прей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а сердцелист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шина обыкновенная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овые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обой продырявлен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обое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яника лес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оцвет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rowSpan="5"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к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ндыш майски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ей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яника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оцвет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алка удивитель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алк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чеягодник обыкновенны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чеягодников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чатка прям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оцветны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2" descr="Achillea[1]"/>
          <p:cNvPicPr/>
          <p:nvPr/>
        </p:nvPicPr>
        <p:blipFill>
          <a:blip r:embed="rId1"/>
          <a:srcRect l="0" t="0" r="0" b="120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928800" y="4287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Тысячелистник щетин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6:13:07Z</dcterms:created>
  <dc:creator>Admin</dc:creator>
  <dc:description/>
  <dc:language>en-US</dc:language>
  <cp:lastModifiedBy>domik</cp:lastModifiedBy>
  <dcterms:modified xsi:type="dcterms:W3CDTF">2013-03-25T15:50:14Z</dcterms:modified>
  <cp:revision>46</cp:revision>
  <dc:subject/>
  <dc:title>Му</dc:title>
</cp:coreProperties>
</file>